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4D39-A0F4-496D-B4D5-22E0FC70E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AA56-5836-4461-B9ED-35622377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C96E-1D30-445C-BB03-F776CE45D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989B-B873-48EB-85E0-D047128E4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786A-DA56-4F1B-AF05-8A1AACB6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8B68-40AC-49B6-9277-E5E26F18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1511-3CC9-4761-BC7B-D0B79F1D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D384-38DE-462F-A8AB-2CC1E4F6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3DD7-4B46-418D-B152-E9660548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A305-82DF-4956-BAA0-A4C2FC24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37BE-8DC5-4C81-AB17-1D8EDEE8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82A4-F2DF-44DE-9A15-AB24EDE0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9D78-DB13-440E-9CDF-1D6523B5D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ан исследований двухмассовой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68360" y="549360"/>
            <a:ext cx="8424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следуется контур скорости двухмассовой системы с целью получения лучшей обозримости результа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тематическая модель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780000" y="1628640"/>
          <a:ext cx="1320480" cy="69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1628640"/>
                    <a:ext cx="1320480" cy="6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900000" y="2781360"/>
          <a:ext cx="1055880" cy="113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2781360"/>
                    <a:ext cx="1055880" cy="11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2751120" y="2349360"/>
          <a:ext cx="2352600" cy="210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51120" y="2349360"/>
                    <a:ext cx="2352600" cy="21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6350040" y="2349360"/>
          <a:ext cx="954000" cy="1825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50040" y="2349360"/>
                    <a:ext cx="954000" cy="18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79280" y="4365720"/>
            <a:ext cx="914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Исследование поведения коэффициентов обратной связ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 задаче модального управления в зависимости от заданной полосы пропускания системы для различных способов задания желаемого полинома: Бесселя, Баттерворта, Чебышева и д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5897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до иметь ввиду, что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коэффициенты обратных связе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для заданного расположения собственных чисел матрицы замкнутой системы будут различными при использовании различных базисов в процессе синтеза регулят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900000" y="2781360"/>
          <a:ext cx="1055880" cy="1138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00000" y="2781360"/>
                    <a:ext cx="1055880" cy="11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95280" y="40464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2602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в одном базисе получили управление в ви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921120" y="692280"/>
          <a:ext cx="866880" cy="26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1120" y="692280"/>
                    <a:ext cx="866880" cy="26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468360" y="98100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 при смене базиса согласно соотношению                 получ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580000" y="1052640"/>
          <a:ext cx="785880" cy="28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0000" y="1052640"/>
                    <a:ext cx="785880" cy="28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3492360" y="1341360"/>
          <a:ext cx="2095560" cy="36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92360" y="1341360"/>
                    <a:ext cx="209556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250920" y="1773360"/>
            <a:ext cx="87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Исследование груб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модального управления. Исследуется зависимость собственных чисел матр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805200" y="2421000"/>
          <a:ext cx="1531800" cy="322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5200" y="2421000"/>
                    <a:ext cx="15318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324000" y="270828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 параметра          при постоянной матрице обратной связи. Этим  параметром могут бы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124000" y="2781360"/>
          <a:ext cx="201600" cy="261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24000" y="2781360"/>
                    <a:ext cx="201600" cy="26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3059280" y="2975040"/>
          <a:ext cx="1006200" cy="382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59280" y="2975040"/>
                    <a:ext cx="100620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395280" y="328464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 исследование имеет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большую цен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371628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Расширяем пространство состоян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за счёт ветрового мом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046400" y="4025880"/>
          <a:ext cx="1049400" cy="1490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046400" y="4025880"/>
                    <a:ext cx="1049400" cy="14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468360" y="551664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учившийся объект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наблюда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но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управляем не полность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Можно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оценить все переменные состоя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и том числе и ветровой момент, но обратную связь по возмущающему моменту завести нельз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95280" y="33336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В замкнутой модальным управлением системе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синтезировать комбинированное управление по ветровому момен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98100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тересно исследовать различные гипотезы о ветровом моменте: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кусочно постоянна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аппроксимация,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кусочно линейна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аппроксимация,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кусочно квадратична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аппроксимация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191628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Исследовать на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imulink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-модели свойства комбинированной систе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и допущении об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измерении всех координат состояния, в том числе и ветрового момента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но при этом проверить различные гипотезы о характере возмущающего моме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3068640"/>
            <a:ext cx="8712000" cy="45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6.Синтезировать наблюдатель полной размер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озможно, при различных гипотезах о характере возмущающего моме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7.Исследовать «корневую» чувствитель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истемы с наблюдателем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полно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Исследовать на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imulink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-модели свойства комбинированной систе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 наблюдателем полной размерности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этом проверить предположение о том, что наблюдатель возмущающего момента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оценивает сумму ветрового момента и момента сухого тр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9.Синтезировать наблюдатель пониженной размер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озможно, при различных гипотезах о характере возмущающего моме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52360" y="1844640"/>
            <a:ext cx="18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189000"/>
            <a:ext cx="8713800" cy="67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0.Исследовать «корневую» чувствитель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истемы с наблюдателем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пониженно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Исследовать на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imulink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-модели свойства комбинированной систе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 наблюдателем пониженной размерности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этом проверить предположение о том, что наблюдатель возмущающего момента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оценивает сумму ветрового момента и момента сухого тр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2.Рассматривая полученную систему как скоростную подсистему, замкнуть систему по углу первой массы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ить свойства системы по изложенной ранее процеду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3.Спроектировать регулятор с замыканием по углу второй массы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объекта с вектором состоя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ить свойства системы по изложенной процеду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оектировать систему по методике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подчинённого регулир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5.Сравни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войства систем п.13 и п.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6.Получить зависимость момента инерции второй масс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 угла места оси телеско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803760" y="3500280"/>
          <a:ext cx="1055520" cy="15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3760" y="3500280"/>
                    <a:ext cx="1055520" cy="15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5T08:15:07Z</dcterms:created>
  <dc:creator>drozdov</dc:creator>
  <dc:description/>
  <dc:language>en-US</dc:language>
  <cp:lastModifiedBy>drozdov</cp:lastModifiedBy>
  <dcterms:modified xsi:type="dcterms:W3CDTF">2011-10-15T11:55:20Z</dcterms:modified>
  <cp:revision>3</cp:revision>
  <dc:subject/>
  <dc:title>План исследований двухмассовой системы</dc:title>
</cp:coreProperties>
</file>