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432-582D-476B-9B8E-95921AD7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9FA-A533-423A-8AF5-407CFA7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A28-6DE4-4646-849B-DF3E171C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72A-DF1F-471F-A454-2E4A03C7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18E-919D-4E66-A228-B19D88F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326-F665-44AA-9F74-75611686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0F4-7E3B-46B0-8992-ED889FE4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88C-5CA3-4FB2-895D-367BF65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4E0-F117-458F-9AAF-2D9371E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F06-EB75-45A5-A0EB-4D8DB44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700-07A2-4430-AC7B-D62B786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EBF-4D25-449D-853F-55203A6C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5415-1E7E-4FFF-B3BF-AEDC71D4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0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1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2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3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4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5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6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7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8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19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0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1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2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3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4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5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6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7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8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29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0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1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2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3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4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5" Type="http://schemas.openxmlformats.org/officeDocument/2006/relationships/hyperlink" Target="file:///Ap%20=%0D%0A%0D%0A%20%201.0e+008%20*%0D%0A%0D%0A%20%20%20-0.0000%20%20%20-0.0000%20%20%20%20%20%20%20%20%200%20%20%20%20%20%20%20%20%200%0D%0A%20%20%20%208.6300%20%20%20%20%20%20%20%20%200%20%20%20-8.6300%20%20%20%20%20%20%20%20%200%0D%0A%20%20%20%20%20%20%20%20%200%20%20%20%200.0000%20%20%20%20%20%20%20%20%200%20%20%20%20%20%20%20%20%200%0D%0A%20%20%20%20%20%20%20%20%200%20%20%20%20%20%20%20%20%200%20%20%20%200.0000%20%20%20%20%20%20%20%20%200" TargetMode="External"/><Relationship Id="rId36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37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38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39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40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41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42" Type="http://schemas.openxmlformats.org/officeDocument/2006/relationships/hyperlink" Target="file:///Bp%20=%0D%0A%0D%0A%20%20%20%200.1142%0D%0A%20%20%20%20%20%20%20%20%200%0D%0A%20%20%20%20%20%20%20%20%200%0D%0A%20%20%20%20%20%20%20%20%200" TargetMode="External"/><Relationship Id="rId43" Type="http://schemas.openxmlformats.org/officeDocument/2006/relationships/hyperlink" Target="file:///Cp%20=%0D%0A%0D%0A%20%20%20%20%20%20%20%20%200%20%20%20%200.0000%20%20%20%20%20%20%20%20%200%20%20%20%201.0000" TargetMode="External"/><Relationship Id="rId44" Type="http://schemas.openxmlformats.org/officeDocument/2006/relationships/hyperlink" Target="file:///Cp%20=%0D%0A%0D%0A%20%20%20%20%20%20%20%20%200%20%20%20%200.0000%20%20%20%20%20%20%20%20%200%20%20%20%201.0000" TargetMode="External"/><Relationship Id="rId45" Type="http://schemas.openxmlformats.org/officeDocument/2006/relationships/hyperlink" Target="file:///Cp%20=%0D%0A%0D%0A%20%20%20%20%20%20%20%20%200%20%20%20%200.0000%20%20%20%20%20%20%20%20%200%20%20%20%201.0000" TargetMode="External"/><Relationship Id="rId46" Type="http://schemas.openxmlformats.org/officeDocument/2006/relationships/hyperlink" Target="file:///Ap(1,1)" TargetMode="External"/><Relationship Id="rId47" Type="http://schemas.openxmlformats.org/officeDocument/2006/relationships/hyperlink" Target="file:///Ap(1,1)" TargetMode="External"/><Relationship Id="rId48" Type="http://schemas.openxmlformats.org/officeDocument/2006/relationships/hyperlink" Target="file:///=%0D%0A%0D%0A%20%20%20-4.3939" TargetMode="External"/><Relationship Id="rId49" Type="http://schemas.openxmlformats.org/officeDocument/2006/relationships/hyperlink" Target="file:///Cp(2)" TargetMode="External"/><Relationship Id="rId50" Type="http://schemas.openxmlformats.org/officeDocument/2006/relationships/hyperlink" Target="file:///Cp(2)" TargetMode="External"/><Relationship Id="rId51" Type="http://schemas.openxmlformats.org/officeDocument/2006/relationships/hyperlink" Target="file:///=%0D%0A%0D%0A%20%201.1587e-009" TargetMode="External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5.wmf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%20Pup=ctrb(Ap,Bp),Pnp=obsv(Ap,Cp)" TargetMode="External"/><Relationship Id="rId2" Type="http://schemas.openxmlformats.org/officeDocument/2006/relationships/hyperlink" Target="file:///%20Pup=ctrb(Ap,Bp),Pnp=obsv(Ap,Cp)" TargetMode="External"/><Relationship Id="rId3" Type="http://schemas.openxmlformats.org/officeDocument/2006/relationships/hyperlink" Target="file:///%20Pup=ctrb(Ap,Bp),Pnp=obsv(Ap,Cp)" TargetMode="External"/><Relationship Id="rId4" Type="http://schemas.openxmlformats.org/officeDocument/2006/relationships/hyperlink" Target="file:///%20Pup=ctrb(Ap,Bp),Pnp=obsv(Ap,Cp)" TargetMode="External"/><Relationship Id="rId5" Type="http://schemas.openxmlformats.org/officeDocument/2006/relationships/hyperlink" Target="file:///%20Pup=ctrb(Ap,Bp),Pnp=obsv(Ap,Cp)" TargetMode="External"/><Relationship Id="rId6" Type="http://schemas.openxmlformats.org/officeDocument/2006/relationships/hyperlink" Target="file:///%20Pup=ctrb(Ap,Bp),Pnp=obsv(Ap,Cp)" TargetMode="External"/><Relationship Id="rId7" Type="http://schemas.openxmlformats.org/officeDocument/2006/relationships/hyperlink" Target="file:///%20Pup=ctrb(Ap,Bp),Pnp=obsv(Ap,Cp)" TargetMode="External"/><Relationship Id="rId8" Type="http://schemas.openxmlformats.org/officeDocument/2006/relationships/hyperlink" Target="file:///%20Pup=ctrb(Ap,Bp),Pnp=obsv(Ap,Cp)" TargetMode="External"/><Relationship Id="rId9" Type="http://schemas.openxmlformats.org/officeDocument/2006/relationships/hyperlink" Target="file:///%20Pup=ctrb(Ap,Bp),Pnp=obsv(Ap,Cp)" TargetMode="External"/><Relationship Id="rId10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1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2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3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4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5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6" Type="http://schemas.openxmlformats.org/officeDocument/2006/relationships/hyperlink" Target="file:///Pup%20=%0D%0A%0D%0A%20%201.0e+013%20*%0D%0A%0D%0A%20%20%20%200.0000%20%20%20-0.0000%20%20%20-0.0000%20%20%20%200.0000%0D%0A%20%20%20%20%20%20%20%20%200%20%20%20%200.0000%20%20%20-0.0000%20%20%20-1.3321%0D%0A%20%20%20%20%20%20%20%20%200%20%20%20%20%20%20%20%20%200%20%20%20%200.0000%20%20%20-0.0000%0D%0A%20%20%20%20%20%20%20%20%200%20%20%20%20%20%20%20%20%200%20%20%20%20%20%20%20%20%200%20%20%20%200.0000" TargetMode="External"/><Relationship Id="rId17" Type="http://schemas.openxmlformats.org/officeDocument/2006/relationships/hyperlink" Target="file:///%20rup=rank(Pup)" TargetMode="External"/><Relationship Id="rId18" Type="http://schemas.openxmlformats.org/officeDocument/2006/relationships/hyperlink" Target="file:///%20rup=rank(Pup)" TargetMode="External"/><Relationship Id="rId19" Type="http://schemas.openxmlformats.org/officeDocument/2006/relationships/hyperlink" Target="file:///%20rup=rank(Pup)" TargetMode="External"/><Relationship Id="rId20" Type="http://schemas.openxmlformats.org/officeDocument/2006/relationships/hyperlink" Target="file:///%20rup=rank(Pup)" TargetMode="External"/><Relationship Id="rId21" Type="http://schemas.openxmlformats.org/officeDocument/2006/relationships/hyperlink" Target="file:///%20rup=rank(Pup)" TargetMode="External"/><Relationship Id="rId22" Type="http://schemas.openxmlformats.org/officeDocument/2006/relationships/hyperlink" Target="file:///rup%20=%0D%0A%0D%0A%20%20%20%20%202" TargetMode="External"/><Relationship Id="rId23" Type="http://schemas.openxmlformats.org/officeDocument/2006/relationships/hyperlink" Target="file:///rup%20=%0D%0A%0D%0A%20%20%20%20%202" TargetMode="External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2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3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4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5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6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7" Type="http://schemas.openxmlformats.org/officeDocument/2006/relationships/hyperlink" Target="file:///Pnp%20=%0D%0A%0D%0A%20%201.0e+005%20*%0D%0A%0D%0A%20%20%20%20%20%20%20%20%200%20%20%20%200.0000%20%20%20%20%20%20%20%20%200%20%20%20%200.0000%0D%0A%20%20%20%200.0000%20%20%20%20%20%20%20%20%200%20%20%20%200.0000%20%20%20%20%20%20%20%20%200%0D%0A%20%20%20-0.0000%20%20%20-0.0000%20%20%20%20%20%20%20%20%200%20%20%20%20%20%20%20%20%200%0D%0A%20%20%20-1.3074%20%20%20%200.0000%20%20%20%201.3076%20%20%20%20%20%20%20%20%200" TargetMode="External"/><Relationship Id="rId8" Type="http://schemas.openxmlformats.org/officeDocument/2006/relationships/hyperlink" Target="file:///rnp=rank(Pnp)" TargetMode="External"/><Relationship Id="rId9" Type="http://schemas.openxmlformats.org/officeDocument/2006/relationships/hyperlink" Target="file:///rnp=rank(Pnp)" TargetMode="External"/><Relationship Id="rId10" Type="http://schemas.openxmlformats.org/officeDocument/2006/relationships/hyperlink" Target="file:///rnp=rank(Pnp)" TargetMode="External"/><Relationship Id="rId11" Type="http://schemas.openxmlformats.org/officeDocument/2006/relationships/hyperlink" Target="file:///rnp=rank(Pnp)" TargetMode="External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0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1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2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3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4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5" Type="http://schemas.openxmlformats.org/officeDocument/2006/relationships/hyperlink" Target="file:///A%20=%20%201.0e+008%20*%20%20%20-0.0001%20%20%20%20%20%20%20%20%200%20%20%20%20%20%20%20%20%200%20%20%20%20%20%20%20%20%200%20%20%20%20%20%20%20%20%200%20%20%20%20%20%20%20%20%200%20%20%20%201.8125%20%20%20-0.0001%20%20%20-1.8125%20%20%20%20%20%20%20%20%200%20%20%20%20%20%20%20%20%200%20%20%20%20%20%20%20%20%200%20%20%20%20%20%20%20%20%200%20%20%20%200.0000%20%20%20%20%20%20%20%20%200%20%20%20-0.0000%20%20%20%20%20%20%20%20%200%20%20%20%20%20%20%20%20%200%20%20%20%20%20%20%20%20%200%20%20%20%20%20%20%20%20%200%20%20%20%208.6300%20%20%20%20%20%20%20%20%200%20%20%20-8.6300%20%20%20%20%20%20%20%20%200%20%20%20%20%20%20%20%20%200%20%20%20%20%20%20%20%20%200%20%20%20%20%20%20%20%20%200%20%20%20%200.0000%20%20%20%20%20%20%20%20%200%20%20%20%20%20%20%20%20%200%20%20%20%20%20%20%20%20%200%20%20%20%20%20%20%20%20%200%20%20%20%20%20%20%20%20%200%20%20%20%20%20%20%20%20%200%20%20%20%200.0000%20%20%20%20%20%20%20%20%200" TargetMode="External"/><Relationship Id="rId16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17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18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19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20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21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22" Type="http://schemas.openxmlformats.org/officeDocument/2006/relationships/hyperlink" Target="file:///B%20=%0D%0A%0D%0A%20%20%20130%0D%0A%20%20%20%20%200%0D%0A%20%20%20%20%200%0D%0A%20%20%20%20%200%0D%0A%20%20%20%20%200%0D%0A%20%20%20%20%200" TargetMode="External"/><Relationship Id="rId23" Type="http://schemas.openxmlformats.org/officeDocument/2006/relationships/hyperlink" Target="file:///C%20=%0D%0A%0D%0A%20%20%20%20%20%20%20%20%200%20%20%20%20%20%20%20%20%200%20%20%20%20%20%20%20%20%200%20%20%20%200.0000%20%20%20%20%20%20%20%20%200%20%20%20%201.0000" TargetMode="External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=eig(A)" TargetMode="External"/><Relationship Id="rId2" Type="http://schemas.openxmlformats.org/officeDocument/2006/relationships/hyperlink" Target="file:///s=eig(A)" TargetMode="External"/><Relationship Id="rId3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4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5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6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7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8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9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10" Type="http://schemas.openxmlformats.org/officeDocument/2006/relationships/hyperlink" Target="file:///s%20=%0D%0A%0D%0A%20%201.0e+003%20*%0D%0A%0D%0A%20%20%20%20%20%20%20%200%20%20%20%20%20%20%20%20%20%20%0D%0A%20%20-6.2456%20%20%20%20%20%20%20%20%20%20%0D%0A%20%20-0.0021%20+%200.3677i%0D%0A%20%20-0.0021%20-%200.3677i%0D%0A%20%20-0.0001%20%20%20%20%20%20%20%20%20%20%0D%0A%20%20-5.0000" TargetMode="External"/><Relationship Id="rId11" Type="http://schemas.openxmlformats.org/officeDocument/2006/relationships/hyperlink" Target="file:///Pn=ctrb(A,B)" TargetMode="External"/><Relationship Id="rId12" Type="http://schemas.openxmlformats.org/officeDocument/2006/relationships/hyperlink" Target="file:///Pn=ctrb(A,B)" TargetMode="External"/><Relationship Id="rId13" Type="http://schemas.openxmlformats.org/officeDocument/2006/relationships/hyperlink" Target="file:///Pn=ctrb(A,B)" TargetMode="External"/><Relationship Id="rId14" Type="http://schemas.openxmlformats.org/officeDocument/2006/relationships/hyperlink" Target="file:///Pn=ctrb(A,B)" TargetMode="External"/><Relationship Id="rId15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16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17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18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19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20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21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22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23" Type="http://schemas.openxmlformats.org/officeDocument/2006/relationships/hyperlink" Target="file:///Pn%20=%20%201.0e+026%20*%20%20%20%200.0000%20%20%20-0.0000%20%20%20%200.0000%20%20%20-0.0000%20%20%20%200.0000%20%20%20-0.0000%20%20%20%20%20%20%20%20%200%20%20%20%200.0000%20%20%20-0.0000%20%20%20%200.0000%20%20%20-0.0002%20%20%20%201.2073%20%20%20%20%20%20%20%20%200%20%20%20%20%20%20%20%20%200%20%20%20%200.0000%20%20%20-0.0000%20%20%20%200.0000%20%20%20-0.0000%20%20%20%20%20%20%20%20%200%20%20%20%20%20%20%20%20%200%20%20%20%20%20%20%20%20%200%20%20%20%200.0000%20%20%20-0.0000%20%20%20%200.0029%20%20%20%20%20%20%20%20%200%20%20%20%20%20%20%20%20%200%20%20%20%20%20%20%20%20%200%20%20%20%20%20%20%20%20%200%20%20%20%200.0000%20%20%20-0.0000%20%20%20%20%20%20%20%20%200%20%20%20%20%20%20%20%20%200%20%20%20%20%20%20%20%20%200%20%20%20%20%20%20%20%20%200%20%20%20%20%20%20%20%20%200%20%20%20%200.0000" TargetMode="External"/><Relationship Id="rId24" Type="http://schemas.openxmlformats.org/officeDocument/2006/relationships/oleObject" Target="../embeddings/oleObject1.bin"/><Relationship Id="rId25" Type="http://schemas.openxmlformats.org/officeDocument/2006/relationships/image" Target="../media/image11.wmf"/><Relationship Id="rId26" Type="http://schemas.openxmlformats.org/officeDocument/2006/relationships/hyperlink" Target="file:///ru=rank(Pn)" TargetMode="External"/><Relationship Id="rId27" Type="http://schemas.openxmlformats.org/officeDocument/2006/relationships/hyperlink" Target="file:///ru=rank(Pn)" TargetMode="External"/><Relationship Id="rId28" Type="http://schemas.openxmlformats.org/officeDocument/2006/relationships/hyperlink" Target="file:///ru=rank(Pn)" TargetMode="External"/><Relationship Id="rId29" Type="http://schemas.openxmlformats.org/officeDocument/2006/relationships/hyperlink" Target="file:///ru=rank(Pn)" TargetMode="External"/><Relationship Id="rId30" Type="http://schemas.openxmlformats.org/officeDocument/2006/relationships/hyperlink" Target="file:///ru%20=%0D%0A%0D%0A%20%20%20%20%202" TargetMode="External"/><Relationship Id="rId31" Type="http://schemas.openxmlformats.org/officeDocument/2006/relationships/hyperlink" Target="file:///ru%20=%0D%0A%0D%0A%20%20%20%20%202" TargetMode="External"/><Relationship Id="rId32" Type="http://schemas.openxmlformats.org/officeDocument/2006/relationships/hyperlink" Target="file:///dn=det(Pn)" TargetMode="External"/><Relationship Id="rId33" Type="http://schemas.openxmlformats.org/officeDocument/2006/relationships/hyperlink" Target="file:///dn=det(Pn)" TargetMode="External"/><Relationship Id="rId34" Type="http://schemas.openxmlformats.org/officeDocument/2006/relationships/hyperlink" Target="file:///dn=det(Pn)" TargetMode="External"/><Relationship Id="rId35" Type="http://schemas.openxmlformats.org/officeDocument/2006/relationships/hyperlink" Target="file:///dn=det(Pn)" TargetMode="External"/><Relationship Id="rId36" Type="http://schemas.openxmlformats.org/officeDocument/2006/relationships/hyperlink" Target="file:///dn=det(Pn)" TargetMode="External"/><Relationship Id="rId37" Type="http://schemas.openxmlformats.org/officeDocument/2006/relationships/hyperlink" Target="file:///dn=det(Pn)" TargetMode="External"/><Relationship Id="rId38" Type="http://schemas.openxmlformats.org/officeDocument/2006/relationships/hyperlink" Target="file:///dn%20=%0D%0A%0D%0A%20%208.2159e+054" TargetMode="External"/><Relationship Id="rId39" Type="http://schemas.openxmlformats.org/officeDocument/2006/relationships/hyperlink" Target="file:///dn%20=%0D%0A%0D%0A%20%208.2159e+054" TargetMode="External"/><Relationship Id="rId40" Type="http://schemas.openxmlformats.org/officeDocument/2006/relationships/hyperlink" Target="file:///dn%20=%0D%0A%0D%0A%20%208.2159e+054" TargetMode="External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n(1,1)%0D%0A%0D%0Aans%20=%0D%0A%0D%0A%20%20%20130" TargetMode="External"/><Relationship Id="rId2" Type="http://schemas.openxmlformats.org/officeDocument/2006/relationships/hyperlink" Target="file:///Pn(1,1)%0D%0A%0D%0Aans%20=%0D%0A%0D%0A%20%20%20130" TargetMode="External"/><Relationship Id="rId3" Type="http://schemas.openxmlformats.org/officeDocument/2006/relationships/hyperlink" Target="file:///Pn(1,1)%0D%0A%0D%0Aans%20=%0D%0A%0D%0A%20%20%20130" TargetMode="External"/><Relationship Id="rId4" Type="http://schemas.openxmlformats.org/officeDocument/2006/relationships/hyperlink" Target="file:///Pn(2,2)%0D%0A%0D%0Aans%20=%0D%0A%0D%0A%20%202.3563e+010" TargetMode="External"/><Relationship Id="rId5" Type="http://schemas.openxmlformats.org/officeDocument/2006/relationships/hyperlink" Target="file:///Pn(2,2)%0D%0A%0D%0Aans%20=%0D%0A%0D%0A%20%202.3563e+010" TargetMode="External"/><Relationship Id="rId6" Type="http://schemas.openxmlformats.org/officeDocument/2006/relationships/hyperlink" Target="file:///Pn(2,2)%0D%0A%0D%0Aans%20=%0D%0A%0D%0A%20%202.3563e+010" TargetMode="External"/><Relationship Id="rId7" Type="http://schemas.openxmlformats.org/officeDocument/2006/relationships/hyperlink" Target="file:///Pn(3,3)%0D%0A%0D%0Aans%20=%0D%0A%0D%0A%20%203.5701e+006" TargetMode="External"/><Relationship Id="rId8" Type="http://schemas.openxmlformats.org/officeDocument/2006/relationships/hyperlink" Target="file:///Pn(3,3)%0D%0A%0D%0Aans%20=%0D%0A%0D%0A%20%203.5701e+006" TargetMode="External"/><Relationship Id="rId9" Type="http://schemas.openxmlformats.org/officeDocument/2006/relationships/hyperlink" Target="file:///Pn(3,3)%0D%0A%0D%0Aans%20=%0D%0A%0D%0A%20%203.5701e+006" TargetMode="External"/><Relationship Id="rId10" Type="http://schemas.openxmlformats.org/officeDocument/2006/relationships/hyperlink" Target="file:///Pn(4,4)%0D%0A%0D%0Aans%20=%0D%0A%0D%0A%20%203.0810e+015" TargetMode="External"/><Relationship Id="rId11" Type="http://schemas.openxmlformats.org/officeDocument/2006/relationships/hyperlink" Target="file:///Pn(4,4)%0D%0A%0D%0Aans%20=%0D%0A%0D%0A%20%203.0810e+015" TargetMode="External"/><Relationship Id="rId12" Type="http://schemas.openxmlformats.org/officeDocument/2006/relationships/hyperlink" Target="file:///Pn(4,4)%0D%0A%0D%0Aans%20=%0D%0A%0D%0A%20%203.0810e+015" TargetMode="External"/><Relationship Id="rId13" Type="http://schemas.openxmlformats.org/officeDocument/2006/relationships/hyperlink" Target="file:///Pn(5,5)%0D%0A%0D%0Aans%20=%0D%0A%0D%0A%20%201.5616e+010" TargetMode="External"/><Relationship Id="rId14" Type="http://schemas.openxmlformats.org/officeDocument/2006/relationships/hyperlink" Target="file:///Pn(5,5)%0D%0A%0D%0Aans%20=%0D%0A%0D%0A%20%201.5616e+010" TargetMode="External"/><Relationship Id="rId15" Type="http://schemas.openxmlformats.org/officeDocument/2006/relationships/hyperlink" Target="file:///Pn(5,5)%0D%0A%0D%0Aans%20=%0D%0A%0D%0A%20%201.5616e+010" TargetMode="External"/><Relationship Id="rId16" Type="http://schemas.openxmlformats.org/officeDocument/2006/relationships/hyperlink" Target="file:///%20Pn(6,6)%0D%0A%0D%0Aans%20=%0D%0A%0D%0A%20%201.5616e+010" TargetMode="External"/><Relationship Id="rId17" Type="http://schemas.openxmlformats.org/officeDocument/2006/relationships/hyperlink" Target="file:///%20Pn(6,6)%0D%0A%0D%0Aans%20=%0D%0A%0D%0A%20%201.5616e+010" TargetMode="External"/><Relationship Id="rId18" Type="http://schemas.openxmlformats.org/officeDocument/2006/relationships/hyperlink" Target="file:///%20Pn(6,6)%0D%0A%0D%0Aans%20=%0D%0A%0D%0A%20%201.5616e+010" TargetMode="External"/><Relationship Id="rId19" Type="http://schemas.openxmlformats.org/officeDocument/2006/relationships/hyperlink" Target="file:///Pn=obsv(A,C)" TargetMode="External"/><Relationship Id="rId20" Type="http://schemas.openxmlformats.org/officeDocument/2006/relationships/hyperlink" Target="file:///Pn=obsv(A,C)" TargetMode="External"/><Relationship Id="rId21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2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3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4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5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6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7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8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29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0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1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2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3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4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5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6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7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8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39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0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1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2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3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4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5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6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7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8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49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0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1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2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3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4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5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6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7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8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59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0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1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2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3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4" Type="http://schemas.openxmlformats.org/officeDocument/2006/relationships/hyperlink" Target="file:///Pn%20=%20%201.0e+012%20*%20%20%20%20%20%20%20%20%200%20%20%20%20%20%20%20%20%200%20%20%20%20%20%20%20%20%200%20%20%20%200.0000%20%20%20%20%20%20%20%20%200%20%20%20%200.0000%20%20%20%20%20%20%20%20%200%20%20%20%20%20%20%20%20%200%20%20%20%200.0000%20%20%20%20%20%20%20%20%200%20%20%20%200.0000%20%20%20%20%20%20%20%20%200%20%20%20%20%20%20%20%20%200%20%20%20%200.0000%20%20%20%20%20%20%20%20%200%20%20%20-0.0000%20%20%20%20%20%20%20%20%200%20%20%20%20%20%20%20%20%200%20%20%20%200.0000%20%20%20-0.0000%20%20%20-0.0000%20%20%20%20%20%20%20%20%200%20%20%20%200.0000%20%20%20%20%20%20%20%20%200%20%20%20-0.0003%20%20%20%200.0000%20%20%20%200.0002%20%20%20%200.0000%20%20%20%20%20%20%20%20%200%20%20%20%20%20%20%20%20%200%20%20%20%202.6131%20%20%20-0.0000%20%20%20-1.0471%20%20%20-0.0000%20%20%20-0.0213%20%20%20%20%20%20%20%20%200" TargetMode="External"/><Relationship Id="rId65" Type="http://schemas.openxmlformats.org/officeDocument/2006/relationships/hyperlink" Target="file:///rn=rank(Pn)%0D%0A%0D%0Arn%20=%0D%0A%0D%0A%20%20%20%20%204" TargetMode="External"/><Relationship Id="rId66" Type="http://schemas.openxmlformats.org/officeDocument/2006/relationships/hyperlink" Target="file:///rn=rank(Pn)%0D%0A%0D%0Arn%20=%0D%0A%0D%0A%20%20%20%20%204" TargetMode="External"/><Relationship Id="rId67" Type="http://schemas.openxmlformats.org/officeDocument/2006/relationships/hyperlink" Target="file:///rn=rank(Pn)%0D%0A%0D%0Arn%20=%0D%0A%0D%0A%20%20%20%20%204" TargetMode="External"/><Relationship Id="rId68" Type="http://schemas.openxmlformats.org/officeDocument/2006/relationships/hyperlink" Target="file:///rn=rank(Pn)%0D%0A%0D%0Arn%20=%0D%0A%0D%0A%20%20%20%20%204" TargetMode="External"/><Relationship Id="rId69" Type="http://schemas.openxmlformats.org/officeDocument/2006/relationships/hyperlink" Target="file:///rn=rank(Pn)%0D%0A%0D%0Arn%20=%0D%0A%0D%0A%20%20%20%20%204" TargetMode="External"/><Relationship Id="rId70" Type="http://schemas.openxmlformats.org/officeDocument/2006/relationships/hyperlink" Target="file:///rn=rank(Pn)%0D%0A%0D%0Arn%20=%0D%0A%0D%0A%20%20%20%20%204" TargetMode="External"/><Relationship Id="rId71" Type="http://schemas.openxmlformats.org/officeDocument/2006/relationships/hyperlink" Target="file:///dn=det(Pn)%0D%0A%0D%0Adn%20=%0D%0A%0D%0A%20-8.0526e+016" TargetMode="External"/><Relationship Id="rId72" Type="http://schemas.openxmlformats.org/officeDocument/2006/relationships/hyperlink" Target="file:///dn=det(Pn)%0D%0A%0D%0Adn%20=%0D%0A%0D%0A%20-8.0526e+016" TargetMode="External"/><Relationship Id="rId73" Type="http://schemas.openxmlformats.org/officeDocument/2006/relationships/hyperlink" Target="file:///dn=det(Pn)%0D%0A%0D%0Adn%20=%0D%0A%0D%0A%20-8.0526e+016" TargetMode="External"/><Relationship Id="rId74" Type="http://schemas.openxmlformats.org/officeDocument/2006/relationships/hyperlink" Target="file:///dn=det(Pn)%0D%0A%0D%0Adn%20=%0D%0A%0D%0A%20-8.0526e+016" TargetMode="External"/><Relationship Id="rId75" Type="http://schemas.openxmlformats.org/officeDocument/2006/relationships/hyperlink" Target="file:///dn=det(Pn)%0D%0A%0D%0Adn%20=%0D%0A%0D%0A%20-8.0526e+016" TargetMode="External"/><Relationship Id="rId76" Type="http://schemas.openxmlformats.org/officeDocument/2006/relationships/hyperlink" Target="file:///dn=det(Pn)%0D%0A%0D%0Adn%20=%0D%0A%0D%0A%20-8.0526e+016" TargetMode="External"/><Relationship Id="rId7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n=eig(Pn)" TargetMode="External"/><Relationship Id="rId2" Type="http://schemas.openxmlformats.org/officeDocument/2006/relationships/hyperlink" Target="file:///sn=eig(Pn)" TargetMode="External"/><Relationship Id="rId3" Type="http://schemas.openxmlformats.org/officeDocument/2006/relationships/hyperlink" Target="file:///sn=eig(Pn)" TargetMode="External"/><Relationship Id="rId4" Type="http://schemas.openxmlformats.org/officeDocument/2006/relationships/hyperlink" Target="file:///sn=eig(Pn)" TargetMode="External"/><Relationship Id="rId5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6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7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8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9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0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1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2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3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4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5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6" Type="http://schemas.openxmlformats.org/officeDocument/2006/relationships/hyperlink" Target="file:///sn(1)ans%20=%20%202.3306e+006%3E%3E%20sn(2)ans%20=%20-1.1653e+006%20+1.2085e+006i%3E%3E%20sn(3)ans%20=%20-1.1653e+006%20-1.2085e+006i%3E%3E%20sn(4)ans%20=%20%20%200.5620%20+18.8431i%3E%3E%20sn(5)ans%20=%20%20%200.5620%20-18.8431i%3E%3E%20sn(6)ans%20=%20-3.4497e-005" TargetMode="External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следование управляемости и наблюдаемости «жёсткого» объ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640" y="26028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ы модели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8800" y="833400"/>
          <a:ext cx="99396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833400"/>
                    <a:ext cx="99396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882800" y="689040"/>
          <a:ext cx="2928960" cy="204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2800" y="689040"/>
                    <a:ext cx="29289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26040" y="833400"/>
          <a:ext cx="958680" cy="17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26040" y="833400"/>
                    <a:ext cx="9586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305400" y="1628640"/>
          <a:ext cx="2082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5400" y="1628640"/>
                    <a:ext cx="2082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8160" y="349416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uvp=ctrb(Avp,Bvp),duvp=det(Puv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3440" y="34941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uvp =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854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 управляем не полностью, что и должно бы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60" y="2781360"/>
            <a:ext cx="73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vp=[-b/J1 -1/J1 0 0 0;cu 0 -cu 0 0;0 1/J2 0 0 -1/J2;0 0 1 0 0;0 0 0 0 0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vp=[a/J1 0 0 0 0]',Cvp=[0 cu^(-1) 0 1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960" y="430056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uvp=ctrb(Avp,Bvp),duvp=det(Puv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nvp=obsv(Avp,Cvp),dnvp=det(Pnv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9600" y="42926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nvp = -13.1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280" y="501336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 наблюдаем полность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052640"/>
            <a:ext cx="8642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жёстки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сятся системы, объекты, собственные числа которых различаются на 3 и более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исследованию жёстких систем необходимо относиться с особым вниманием. Это обуславливается возникновением больших ошибок при выполнении вычислительных процед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ллюстрируем это утверждение на примере двухмассовой модели азимутальной оси телеск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модель объекта управления без учёта постоянных времени преобразовательного устройства и обмотки двигателя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70200" y="4149720"/>
          <a:ext cx="338616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0200" y="4149720"/>
                    <a:ext cx="33861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456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40464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ы модели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95640" y="836640"/>
          <a:ext cx="230328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836640"/>
                    <a:ext cx="23032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433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981000"/>
          <a:ext cx="94284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981000"/>
                    <a:ext cx="9428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417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59280" y="981000"/>
          <a:ext cx="87624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981000"/>
                    <a:ext cx="8762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237360" y="1628640"/>
          <a:ext cx="17193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37360" y="1628640"/>
                    <a:ext cx="17193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56536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pr=.026,Tpr=2*10^(-4),Te=1.6*10^(-4),b=2.9*10^4,J1=6600,J2=197300,cu=8.63*10^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=[-b/J1 -1/J1 0 0;cu 0 -cu 0;0 1/J2 0 0;0 0 1 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kpr*b,Bp=[a/J1 0 0 0]',Cp=[0 cu^(-1) 0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040" y="371628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.0e+008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-0.0000   -0.0000    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    8.6300     0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-8.630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0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 0.0000     0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         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0.000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8480" y="3860640"/>
            <a:ext cx="13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B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0.1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2400" y="39337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C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        0    0.0000   0    1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589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уже очень большой разброс коэффициентов, наприм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7440" y="6021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A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(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9440" y="60418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= -4.3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4160" y="609300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C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1600" y="60930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=1.1587e-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таком разбросе коэффициентов могут возникать большие ошибки вычис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27640" y="1628640"/>
          <a:ext cx="1719360" cy="36360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227640" y="1628640"/>
                    <a:ext cx="17193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9079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числим матрицы управляемости и наблюд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1800" y="126828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up=ctr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p,B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)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np=obs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p,C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5880" y="1628640"/>
            <a:ext cx="510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u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       1.0e+013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                    0.0000   -0.0000   -0.0000    0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                    0             0.0000   -0.0000   -1.3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                    0             0             0.0000   -0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                     0             0             0             0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4160" y="184464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up=ran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Pu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9440" y="227664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ru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 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50028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численный таким образом ранг матрицы управляемости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указывает на неуправляемость объ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что противоречит физике явлений. Заметим, что элементы матрицы управляемости имеют большой разброс. Матрица верхне треугольная.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обственные чис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акой матрицы стоят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на главной диагон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Вычислим эти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4941720"/>
            <a:ext cx="89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up(1,1)=0.1142, Pup(2,2)=9.8591e+007, Pup(3,3)=499.7020, Pup(4,4)=499.7020.  Все он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личны от ну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лее того, определитель матрицы управляемости dup=det(Pup),   dup =2.8125e+012, отличен от нуля, следовательно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атрица управляемости полного ра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33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а наблюд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9000" y="765000"/>
            <a:ext cx="528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n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      1.0e+005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                   0              0.0000     0             0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                    0.0000     0              0.0000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                   -0.0000   -0.0000     0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                    -1.3074    0.0000     1.3076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492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разброс коэффициентов меньше, чем для матрицы управля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85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np=ran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n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rnp = 4. Объек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блюдаем пол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соответствуе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3573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 с учётом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стоянных време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еобразователя и обмотки двигате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348000" y="3868560"/>
          <a:ext cx="2133720" cy="2743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8560"/>
                    <a:ext cx="2133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720" y="1825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ы модели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268280"/>
          <a:ext cx="79200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92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63640" y="620640"/>
          <a:ext cx="303228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620640"/>
                    <a:ext cx="30322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92720" y="1125360"/>
          <a:ext cx="777960" cy="194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1125360"/>
                    <a:ext cx="7779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421320" y="1913040"/>
          <a:ext cx="218304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1320" y="1913040"/>
                    <a:ext cx="21830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24000" y="350028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=[-1/Tpr 0 0 0 0 0;b/Te -1/Te -b/Te 0 0 0;0 1/J1 0 -1/J1 0 0;0 0 cu 0 -cu 0;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0 0 1/J2 0 0;0 0 0 0 1 0],B=[kpr/Tpr 0 0 0 0 0]',C=[0 0 0 cu^(-1) 0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400" y="4005360"/>
            <a:ext cx="741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 =  1.0e+008 *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                     -0.0001     0             0                  0            0            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                      1.8125    -0.0001   -1.8125         0            0            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                      0              0.0000    0                 -0.0000   0            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                      0              0             8.6300         0           -8.6300   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                      0              0             0                  0.0000   0            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                      0              0             0                  0            0.0000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4520" y="4005360"/>
            <a:ext cx="75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 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9840" y="6157800"/>
            <a:ext cx="50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C =      0         0         0    0.0000         0    1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260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ые числа этой матрицы отличаются в 1000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440" y="62064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=ei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5280" y="620640"/>
            <a:ext cx="298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1.0e+003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               0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              -6.2456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               -0.0021 + 0.3677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               -0.0021 - 0.3677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               -0.0001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               -5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85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а управляемости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720" y="31417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ctr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360" y="3573360"/>
            <a:ext cx="62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=  1.0e+026 *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0.0000   -0.0000    0.0000   -0.0000    0.0000   -0.000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0             0.0000   -0.0000    0.0000   -0.0002    1.2073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0             0             0.0000   -0.0000    0.0000   -0.000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0             0             0             0.0000   -0.0000    0.0029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0             0             0             0             0.0000   -0.000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0             0             0             0             0             0.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589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эффициенты матрицы отличаются в        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797360" y="5622840"/>
          <a:ext cx="392040" cy="285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797360" y="5622840"/>
                    <a:ext cx="3920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70520" y="587700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u=ran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(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0720" y="5848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 =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5877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оответствует физическому смы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160" y="623736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=d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(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1240" y="623088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= 8.2159e+0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8900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ль матрицы управляемости отличен от 0, следовательно, эта матрица полного ранга и её ранг равен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числим собственные числа верхне треугольной матрицы управля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7440" y="1268280"/>
            <a:ext cx="7843320" cy="801720"/>
            <a:chOff x="397440" y="1268280"/>
            <a:chExt cx="7843320" cy="801720"/>
          </a:xfrm>
        </p:grpSpPr>
        <p:sp>
          <p:nvSpPr>
            <p:cNvPr id="121" name=""/>
            <p:cNvSpPr/>
            <p:nvPr/>
          </p:nvSpPr>
          <p:spPr>
            <a:xfrm>
              <a:off x="397440" y="1268280"/>
              <a:ext cx="157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(1,1) = 1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1640" y="1268280"/>
              <a:ext cx="24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(2,2)= 2.3563e+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3200" y="1268280"/>
              <a:ext cx="25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9"/>
                </a:rPr>
                <a:t>(3,3) = 3.5701e+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8520" y="1701720"/>
              <a:ext cx="24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0"/>
                </a:rPr>
                <a:t>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1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2"/>
                </a:rPr>
                <a:t>(4,4)= 3.0810e+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2520" y="1701720"/>
              <a:ext cx="24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3"/>
                </a:rPr>
                <a:t>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4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5"/>
                </a:rPr>
                <a:t>(5,5)= 1.5616e+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4520" y="1701720"/>
              <a:ext cx="25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6"/>
                </a:rPr>
                <a:t> P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7"/>
                </a:rPr>
                <a:t>u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8"/>
                </a:rPr>
                <a:t>(6,6)= 1.5616e+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4000" y="21337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рица наблюд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0160" y="2421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n=obs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(A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" y="2708280"/>
            <a:ext cx="758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P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=  1.0e+012 *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0.0000   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.000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0.0000  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0.0000   0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0.0000    0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-0.0000   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0.0000   -0.0000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-0.0000  0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0.0000   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 -0.0003    0.0000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0.0002  0.0000   0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0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2.6131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-0.0000   -1.0471 -0.0000  -0.0213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653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также большая разница в элементах матрицы. Вычислим ранг матр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280" y="4941720"/>
            <a:ext cx="23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rn=ran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P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)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r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300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добавлении двух последовательно включённых апериодических звеньев свойство наблюдаемости  пропало, что не увязывается с физикой. Вычис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1440" y="5877000"/>
            <a:ext cx="35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dn=d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P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)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d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 =-8.0526e+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680" y="6165720"/>
            <a:ext cx="918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ль матрицы наблюдаемости отличен от 0, следовательно, эта матр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ого ранга и её ранг равен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476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ём собственные числа матрицы наблюд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160" y="836640"/>
            <a:ext cx="12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n=ei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1480" y="1197000"/>
            <a:ext cx="81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1)=  2.3306e+006,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2) = -1.1653e+006 +1.2085e+006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(3)= -1.1653e+006 -1.2085e+006i,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(4)=   0.5620 +18.8431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(5)=  0.5620 -18.8431i,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s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(6)= -3.4497e-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227664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м возможность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ценки ветрового мо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 показаниям датчика угла первой массы без учёта постоянных времени. Уравнение состояния в этом случа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843280" y="3105000"/>
          <a:ext cx="3386160" cy="298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3280" y="3105000"/>
                    <a:ext cx="3386160" cy="29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07:48:18Z</dcterms:created>
  <dc:creator>drozdov</dc:creator>
  <dc:description/>
  <dc:language>en-US</dc:language>
  <cp:lastModifiedBy>drozdov</cp:lastModifiedBy>
  <dcterms:modified xsi:type="dcterms:W3CDTF">2011-10-30T16:42:46Z</dcterms:modified>
  <cp:revision>3</cp:revision>
  <dc:subject/>
  <dc:title>Исследование управляемости и наблюдаемости «жёсткого» объекта</dc:title>
</cp:coreProperties>
</file>